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9E51-D3E2-4F69-A2D3-BE8AAB78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F321-985B-4B6A-B08A-FF5AD266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7D93-B425-400A-96A9-24BA28FD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FAD8-6AD3-4767-99C5-8D723945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312C-8AF1-4665-8AA3-CC47A354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0355-DAA5-4650-9CD2-D259AED6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254F-5056-49AB-99BE-95D45301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9D81-B313-4ED8-BEAF-E2791756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D2C6-7B9D-4D54-AC5D-101C3E3F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0360-B2C4-4080-8D6A-D5E699EE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337F-9D0B-4296-A44A-7C5D0154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5F48-CA3C-47D8-A36C-664105EC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4B23-EE34-4F46-A301-6EC2126F8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5:08:17Z</dcterms:created>
  <dc:creator> </dc:creator>
  <dc:description/>
  <dc:language>en-US</dc:language>
  <cp:lastModifiedBy> </cp:lastModifiedBy>
  <dcterms:modified xsi:type="dcterms:W3CDTF">2009-02-24T15:08:42Z</dcterms:modified>
  <cp:revision>1</cp:revision>
  <dc:subject/>
  <dc:title>Slide 1</dc:title>
</cp:coreProperties>
</file>